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9F1D-6022-466A-A84B-65F62E8172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868A-7807-4F24-A4ED-0232CB7984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C3E6-364C-438A-98F6-95F32547BF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28BD-9E77-41D4-9489-DFF2540668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395-28A7-4B04-8431-23E968C30E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0B1D-9420-4CD2-963D-F0C7D4211A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喜欢什么运动</a:t>
            </a:r>
            <a:r>
              <a:rPr b="1" lang="en-US" sz="65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좋아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hu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打篮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548400"/>
            <a:ext cx="62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구기 종목 등을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有篮球比赛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농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n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打乒乓球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탁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īngpāng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喜欢游泳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영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óuyǒ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考试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明天有考试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ǎo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妹妹喜欢跳舞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춤추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àowǔ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弟弟喜欢唱歌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à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唱什么歌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할 줄 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h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会唱中国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 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喜欢运动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운동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ùnd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踢球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르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没问题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문제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nt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说汉语吗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听一听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듣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我帮你吧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돕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191560"/>
            <a:ext cx="627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昨天的比赛几比几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185520"/>
            <a:ext cx="626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두 개의 수를 서로 비교하다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赢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踢足球。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踢足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축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ú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们要做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려고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8040" y="5100480"/>
            <a:ext cx="66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要参加足球比赛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참가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ān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有比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경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합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s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很厉害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ìha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加油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응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힘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yó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6:05Z</dcterms:modified>
  <cp:revision>232</cp:revision>
  <dc:subject/>
  <dc:title>슬라이드 1</dc:title>
</cp:coreProperties>
</file>